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whistle.wav" ContentType="audio/x-wav"/>
  <Override PartName="/ppt/media/train.wav" ContentType="audio/x-wav"/>
  <Override PartName="/ppt/media/CAMERA.WAV" ContentType="audio/x-wav"/>
  <Override PartName="/ppt/media/image4.wmf" ContentType="image/x-wmf"/>
  <Override PartName="/ppt/media/image5.png" ContentType="image/png"/>
  <Override PartName="/ppt/media/image3.wmf" ContentType="image/x-wmf"/>
  <Override PartName="/ppt/media/wee.wav" ContentType="audio/x-wav"/>
  <Override PartName="/ppt/media/moo.wav" ContentType="audio/x-wav"/>
  <Override PartName="/ppt/media/TYPE.WAV" ContentType="audio/x-wav"/>
  <Override PartName="/ppt/media/tigger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31A-8EB2-4E15-81D1-183A78BE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0D7-99CD-43D0-9B45-1BB0008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B1C-E8BD-42F5-A94C-3FF1CCA1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C93-C24D-4034-977F-9727860F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230-9970-4284-8CB5-BC97D072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30C-11B5-40FC-A786-128D0A6F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4EA-FBB6-42BF-990E-2FD886C2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611-B053-47EE-9825-354AB791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B47-4EDB-488B-9E79-421F53F7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ABE-2992-4E6C-AB1C-E4C40B5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F73-BDB4-42C2-9813-30327AE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404-4542-4585-B205-7C53C43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4D70-F425-485C-BD0F-48BB2A4C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rain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audio" Target="../media/train.wav"/><Relationship Id="rId4" Type="http://schemas.openxmlformats.org/officeDocument/2006/relationships/audio" Target="../media/we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moo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igge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istle.wav"/><Relationship Id="rId2" Type="http://schemas.openxmlformats.org/officeDocument/2006/relationships/audio" Target="../media/whistle.wav"/><Relationship Id="rId3" Type="http://schemas.openxmlformats.org/officeDocument/2006/relationships/audio" Target="../media/whistl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istle.wav"/><Relationship Id="rId2" Type="http://schemas.openxmlformats.org/officeDocument/2006/relationships/audio" Target="../media/whistle.wav"/><Relationship Id="rId3" Type="http://schemas.openxmlformats.org/officeDocument/2006/relationships/audio" Target="../media/whistl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Created by 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Poh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380880"/>
            <a:ext cx="6858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Jester"/>
              </a:rPr>
              <a:t>Parts of a Sent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A sentence has two parts.  It has a 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subject</a:t>
            </a: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 and a 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predicate</a:t>
            </a: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2455920" cy="381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43000" y="380880"/>
            <a:ext cx="6858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Jester"/>
              </a:rPr>
              <a:t>Parts of a Sent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12193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e </a:t>
            </a: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names who the sentence is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086600" y="2590920"/>
            <a:ext cx="144612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36576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e </a:t>
            </a: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predicate </a:t>
            </a: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ells what they d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g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Jes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young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148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check the whe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re noi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likes the air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clear and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a busy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atches the air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miles at 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371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Su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Predic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228600"/>
            <a:ext cx="7239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Put the sentence parts together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stl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Jes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young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ork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148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a busy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re noi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likes the air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clear and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check the whe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atches the air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miles at 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371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Su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Predic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228600"/>
            <a:ext cx="7239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Put the sentence parts together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895480"/>
            <a:ext cx="2514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28954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0384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4038120"/>
            <a:ext cx="2133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362320" y="5790960"/>
            <a:ext cx="19047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2286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stl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0T02:13:23Z</dcterms:created>
  <dc:creator>Thomas Pohlman</dc:creator>
  <dc:description/>
  <dc:language>en-US</dc:language>
  <cp:lastModifiedBy>dyera</cp:lastModifiedBy>
  <dcterms:modified xsi:type="dcterms:W3CDTF">2007-09-18T14:50:35Z</dcterms:modified>
  <cp:revision>13</cp:revision>
  <dc:subject/>
  <dc:title>No Slide Title</dc:title>
</cp:coreProperties>
</file>